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AA25-FC77-43E9-A6EB-8E5AECE4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16AC5-5EA8-49F5-A4C2-751FD7A8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7DA2-6B9D-469C-8512-575DF9B3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1E1C-8F4F-4A09-B3C3-301F359F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3DE5-31C3-4E41-AC55-E3043C9E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5B4F-7195-465F-9615-2A55E00C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CE9A-E499-4962-BC46-5C5E0F1F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7B4A-94FF-4DCB-AA75-E0C6C72E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DD87-893E-4190-89F6-5DF6455E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4247-1076-438A-B675-B4C4DD81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3B85-48ED-44C9-8B4B-42676ACD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90D5-C72A-40AE-8C88-DF0C4D50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97E0-0E91-48AC-9C84-D3DB3B2C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6DBF-F8DE-49A4-8945-764A93D6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B659-3ED7-4228-A874-96E0B6E3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E9DD-FD04-4EA1-9AD4-6DF7860D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2A22-0ECB-4D91-ABD4-60802101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D8D9-49EF-413F-A3BA-08EB176A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AB25-BCB1-451B-A47A-4FCFDA08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4D75-9EFB-4BDD-B443-E1E330D1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99DF0-9D4D-4C9D-BC82-18C081A6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D107-CC7B-426F-8DFA-34087264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FEB08-32C0-4B74-B24C-35083FAF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8789-BC68-453C-94B6-A071364C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D32A-4938-4BC5-BB89-CE8E61350D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1C74-F0EF-44A9-B026-22EA4A7E16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fai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fair is a polygraphic method designed to invalidate single frequency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is a 5 x 5 matrix of letters (j is not used) arranged by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f the keyword is harpsicord, the matrix key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992600" y="4933800"/>
            <a:ext cx="1338840" cy="278280"/>
            <a:chOff x="1992600" y="4933800"/>
            <a:chExt cx="1338840" cy="278280"/>
          </a:xfrm>
        </p:grpSpPr>
        <p:grpSp>
          <p:nvGrpSpPr>
            <p:cNvPr id="116" name=""/>
            <p:cNvGrpSpPr/>
            <p:nvPr/>
          </p:nvGrpSpPr>
          <p:grpSpPr>
            <a:xfrm>
              <a:off x="2792880" y="4933800"/>
              <a:ext cx="272160" cy="278280"/>
              <a:chOff x="2792880" y="4933800"/>
              <a:chExt cx="272160" cy="278280"/>
            </a:xfrm>
          </p:grpSpPr>
          <p:sp>
            <p:nvSpPr>
              <p:cNvPr id="117" name=""/>
              <p:cNvSpPr/>
              <p:nvPr/>
            </p:nvSpPr>
            <p:spPr>
              <a:xfrm>
                <a:off x="279720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928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526120" y="4933800"/>
              <a:ext cx="272160" cy="278280"/>
              <a:chOff x="2526120" y="4933800"/>
              <a:chExt cx="272160" cy="278280"/>
            </a:xfrm>
          </p:grpSpPr>
          <p:sp>
            <p:nvSpPr>
              <p:cNvPr id="120" name=""/>
              <p:cNvSpPr/>
              <p:nvPr/>
            </p:nvSpPr>
            <p:spPr>
              <a:xfrm>
                <a:off x="253044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261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68720" y="4933800"/>
              <a:ext cx="272160" cy="278280"/>
              <a:chOff x="2268720" y="4933800"/>
              <a:chExt cx="272160" cy="278280"/>
            </a:xfrm>
          </p:grpSpPr>
          <p:sp>
            <p:nvSpPr>
              <p:cNvPr id="123" name=""/>
              <p:cNvSpPr/>
              <p:nvPr/>
            </p:nvSpPr>
            <p:spPr>
              <a:xfrm>
                <a:off x="227304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687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992600" y="4933800"/>
              <a:ext cx="272160" cy="278280"/>
              <a:chOff x="1992600" y="4933800"/>
              <a:chExt cx="272160" cy="2782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9692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9260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059280" y="4933800"/>
              <a:ext cx="272160" cy="278280"/>
              <a:chOff x="3059280" y="4933800"/>
              <a:chExt cx="272160" cy="278280"/>
            </a:xfrm>
          </p:grpSpPr>
          <p:sp>
            <p:nvSpPr>
              <p:cNvPr id="129" name=""/>
              <p:cNvSpPr/>
              <p:nvPr/>
            </p:nvSpPr>
            <p:spPr>
              <a:xfrm>
                <a:off x="306360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592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1992600" y="5200560"/>
            <a:ext cx="1338840" cy="278280"/>
            <a:chOff x="1992600" y="5200560"/>
            <a:chExt cx="1338840" cy="278280"/>
          </a:xfrm>
        </p:grpSpPr>
        <p:grpSp>
          <p:nvGrpSpPr>
            <p:cNvPr id="132" name=""/>
            <p:cNvGrpSpPr/>
            <p:nvPr/>
          </p:nvGrpSpPr>
          <p:grpSpPr>
            <a:xfrm>
              <a:off x="2792880" y="5200560"/>
              <a:ext cx="272160" cy="278280"/>
              <a:chOff x="2792880" y="5200560"/>
              <a:chExt cx="272160" cy="27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79720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928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526120" y="5200560"/>
              <a:ext cx="272160" cy="278280"/>
              <a:chOff x="2526120" y="5200560"/>
              <a:chExt cx="272160" cy="27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53044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261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268720" y="5200560"/>
              <a:ext cx="272160" cy="278280"/>
              <a:chOff x="2268720" y="5200560"/>
              <a:chExt cx="272160" cy="27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227304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687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992600" y="5200560"/>
              <a:ext cx="272160" cy="278280"/>
              <a:chOff x="1992600" y="5200560"/>
              <a:chExt cx="272160" cy="27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99692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9260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059280" y="5200560"/>
              <a:ext cx="272160" cy="278280"/>
              <a:chOff x="3059280" y="5200560"/>
              <a:chExt cx="272160" cy="27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06360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592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1992600" y="5467320"/>
            <a:ext cx="1338840" cy="277920"/>
            <a:chOff x="1992600" y="5467320"/>
            <a:chExt cx="1338840" cy="277920"/>
          </a:xfrm>
        </p:grpSpPr>
        <p:grpSp>
          <p:nvGrpSpPr>
            <p:cNvPr id="148" name=""/>
            <p:cNvGrpSpPr/>
            <p:nvPr/>
          </p:nvGrpSpPr>
          <p:grpSpPr>
            <a:xfrm>
              <a:off x="2792880" y="5467320"/>
              <a:ext cx="272160" cy="277920"/>
              <a:chOff x="2792880" y="5467320"/>
              <a:chExt cx="272160" cy="277920"/>
            </a:xfrm>
          </p:grpSpPr>
          <p:sp>
            <p:nvSpPr>
              <p:cNvPr id="149" name=""/>
              <p:cNvSpPr/>
              <p:nvPr/>
            </p:nvSpPr>
            <p:spPr>
              <a:xfrm>
                <a:off x="279720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928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26120" y="5467320"/>
              <a:ext cx="272160" cy="277920"/>
              <a:chOff x="2526120" y="5467320"/>
              <a:chExt cx="272160" cy="277920"/>
            </a:xfrm>
          </p:grpSpPr>
          <p:sp>
            <p:nvSpPr>
              <p:cNvPr id="152" name=""/>
              <p:cNvSpPr/>
              <p:nvPr/>
            </p:nvSpPr>
            <p:spPr>
              <a:xfrm>
                <a:off x="253044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261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268720" y="5467320"/>
              <a:ext cx="272160" cy="277920"/>
              <a:chOff x="2268720" y="5467320"/>
              <a:chExt cx="272160" cy="277920"/>
            </a:xfrm>
          </p:grpSpPr>
          <p:sp>
            <p:nvSpPr>
              <p:cNvPr id="155" name=""/>
              <p:cNvSpPr/>
              <p:nvPr/>
            </p:nvSpPr>
            <p:spPr>
              <a:xfrm>
                <a:off x="227304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687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1992600" y="5467320"/>
              <a:ext cx="272160" cy="277920"/>
              <a:chOff x="1992600" y="5467320"/>
              <a:chExt cx="272160" cy="277920"/>
            </a:xfrm>
          </p:grpSpPr>
          <p:sp>
            <p:nvSpPr>
              <p:cNvPr id="158" name=""/>
              <p:cNvSpPr/>
              <p:nvPr/>
            </p:nvSpPr>
            <p:spPr>
              <a:xfrm>
                <a:off x="199692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99260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059280" y="5467320"/>
              <a:ext cx="272160" cy="277920"/>
              <a:chOff x="3059280" y="5467320"/>
              <a:chExt cx="272160" cy="27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306360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592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1992600" y="5734080"/>
            <a:ext cx="1338840" cy="277920"/>
            <a:chOff x="1992600" y="5734080"/>
            <a:chExt cx="1338840" cy="277920"/>
          </a:xfrm>
        </p:grpSpPr>
        <p:grpSp>
          <p:nvGrpSpPr>
            <p:cNvPr id="164" name=""/>
            <p:cNvGrpSpPr/>
            <p:nvPr/>
          </p:nvGrpSpPr>
          <p:grpSpPr>
            <a:xfrm>
              <a:off x="2792880" y="5734080"/>
              <a:ext cx="272160" cy="277920"/>
              <a:chOff x="2792880" y="5734080"/>
              <a:chExt cx="272160" cy="277920"/>
            </a:xfrm>
          </p:grpSpPr>
          <p:sp>
            <p:nvSpPr>
              <p:cNvPr id="165" name=""/>
              <p:cNvSpPr/>
              <p:nvPr/>
            </p:nvSpPr>
            <p:spPr>
              <a:xfrm>
                <a:off x="279720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928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526120" y="5734080"/>
              <a:ext cx="272160" cy="277920"/>
              <a:chOff x="2526120" y="5734080"/>
              <a:chExt cx="272160" cy="277920"/>
            </a:xfrm>
          </p:grpSpPr>
          <p:sp>
            <p:nvSpPr>
              <p:cNvPr id="168" name=""/>
              <p:cNvSpPr/>
              <p:nvPr/>
            </p:nvSpPr>
            <p:spPr>
              <a:xfrm>
                <a:off x="253044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261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268720" y="5734080"/>
              <a:ext cx="272160" cy="277920"/>
              <a:chOff x="2268720" y="5734080"/>
              <a:chExt cx="272160" cy="277920"/>
            </a:xfrm>
          </p:grpSpPr>
          <p:sp>
            <p:nvSpPr>
              <p:cNvPr id="171" name=""/>
              <p:cNvSpPr/>
              <p:nvPr/>
            </p:nvSpPr>
            <p:spPr>
              <a:xfrm>
                <a:off x="227304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687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992600" y="5734080"/>
              <a:ext cx="272160" cy="277920"/>
              <a:chOff x="1992600" y="5734080"/>
              <a:chExt cx="272160" cy="277920"/>
            </a:xfrm>
          </p:grpSpPr>
          <p:sp>
            <p:nvSpPr>
              <p:cNvPr id="174" name=""/>
              <p:cNvSpPr/>
              <p:nvPr/>
            </p:nvSpPr>
            <p:spPr>
              <a:xfrm>
                <a:off x="199692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9260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059280" y="5734080"/>
              <a:ext cx="272160" cy="277920"/>
              <a:chOff x="3059280" y="573408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06360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592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1992600" y="5991120"/>
            <a:ext cx="1338840" cy="278280"/>
            <a:chOff x="1992600" y="5991120"/>
            <a:chExt cx="1338840" cy="278280"/>
          </a:xfrm>
        </p:grpSpPr>
        <p:grpSp>
          <p:nvGrpSpPr>
            <p:cNvPr id="180" name=""/>
            <p:cNvGrpSpPr/>
            <p:nvPr/>
          </p:nvGrpSpPr>
          <p:grpSpPr>
            <a:xfrm>
              <a:off x="2792880" y="5991120"/>
              <a:ext cx="272160" cy="278280"/>
              <a:chOff x="2792880" y="5991120"/>
              <a:chExt cx="272160" cy="27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279720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928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526120" y="5991120"/>
              <a:ext cx="272160" cy="278280"/>
              <a:chOff x="2526120" y="5991120"/>
              <a:chExt cx="272160" cy="27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253044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261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68720" y="5991120"/>
              <a:ext cx="272160" cy="278280"/>
              <a:chOff x="2268720" y="5991120"/>
              <a:chExt cx="272160" cy="27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227304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687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992600" y="5991120"/>
              <a:ext cx="272160" cy="278280"/>
              <a:chOff x="1992600" y="5991120"/>
              <a:chExt cx="272160" cy="27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199692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9260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059280" y="5991120"/>
              <a:ext cx="272160" cy="278280"/>
              <a:chOff x="3059280" y="5991120"/>
              <a:chExt cx="272160" cy="27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306360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592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3598560" y="5227560"/>
            <a:ext cx="511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E:  the second R in harpsico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1D881-15A5-4BB6-BF8D-29CB3878D8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ext is pre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’s are replaced with i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ull letter such as q is placed between any identical pairs of letters so that “tt” becomes “tq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plaintext has an odd number of letters, the null letter is added on to the e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text is produced by looking at each pair of letters in the plaintext 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row in the key matrix, then they are replaced by the characters to their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column then they are replaced by the letters below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different rows and columns then they are replaced by the letters found on the other two corners of a rectangle formed by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0F05D-2B7D-4270-955F-4672F61D79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83600" cy="26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letter pair: “RE”  becomes “EB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 rows circle back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selves so the letter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LQ” becomes “M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201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6488280" y="4821120"/>
            <a:ext cx="280800" cy="284400"/>
            <a:chOff x="6488280" y="4821120"/>
            <a:chExt cx="280800" cy="284400"/>
          </a:xfrm>
        </p:grpSpPr>
        <p:sp>
          <p:nvSpPr>
            <p:cNvPr id="282" name=""/>
            <p:cNvSpPr/>
            <p:nvPr/>
          </p:nvSpPr>
          <p:spPr>
            <a:xfrm>
              <a:off x="650232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828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964480" y="4287960"/>
            <a:ext cx="280800" cy="283680"/>
            <a:chOff x="5964480" y="4287960"/>
            <a:chExt cx="280800" cy="283680"/>
          </a:xfrm>
        </p:grpSpPr>
        <p:sp>
          <p:nvSpPr>
            <p:cNvPr id="285" name=""/>
            <p:cNvSpPr/>
            <p:nvPr/>
          </p:nvSpPr>
          <p:spPr>
            <a:xfrm>
              <a:off x="597852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6448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697720" y="4287960"/>
            <a:ext cx="280800" cy="283680"/>
            <a:chOff x="5697720" y="4287960"/>
            <a:chExt cx="280800" cy="283680"/>
          </a:xfrm>
        </p:grpSpPr>
        <p:sp>
          <p:nvSpPr>
            <p:cNvPr id="288" name=""/>
            <p:cNvSpPr/>
            <p:nvPr/>
          </p:nvSpPr>
          <p:spPr>
            <a:xfrm>
              <a:off x="57117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977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421600" y="4830840"/>
            <a:ext cx="280800" cy="283680"/>
            <a:chOff x="5421600" y="4830840"/>
            <a:chExt cx="280800" cy="283680"/>
          </a:xfrm>
        </p:grpSpPr>
        <p:sp>
          <p:nvSpPr>
            <p:cNvPr id="291" name=""/>
            <p:cNvSpPr/>
            <p:nvPr/>
          </p:nvSpPr>
          <p:spPr>
            <a:xfrm>
              <a:off x="543564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160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958000" y="4281480"/>
            <a:ext cx="280800" cy="283680"/>
            <a:chOff x="5958000" y="4281480"/>
            <a:chExt cx="280800" cy="283680"/>
          </a:xfrm>
        </p:grpSpPr>
        <p:sp>
          <p:nvSpPr>
            <p:cNvPr id="294" name=""/>
            <p:cNvSpPr/>
            <p:nvPr/>
          </p:nvSpPr>
          <p:spPr>
            <a:xfrm>
              <a:off x="5972040" y="42987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58000" y="4281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221520" y="4287960"/>
            <a:ext cx="280800" cy="283680"/>
            <a:chOff x="6221520" y="4287960"/>
            <a:chExt cx="280800" cy="283680"/>
          </a:xfrm>
        </p:grpSpPr>
        <p:sp>
          <p:nvSpPr>
            <p:cNvPr id="297" name=""/>
            <p:cNvSpPr/>
            <p:nvPr/>
          </p:nvSpPr>
          <p:spPr>
            <a:xfrm>
              <a:off x="62355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215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421600" y="4821120"/>
            <a:ext cx="280800" cy="284400"/>
            <a:chOff x="5421600" y="4821120"/>
            <a:chExt cx="280800" cy="284400"/>
          </a:xfrm>
        </p:grpSpPr>
        <p:sp>
          <p:nvSpPr>
            <p:cNvPr id="300" name=""/>
            <p:cNvSpPr/>
            <p:nvPr/>
          </p:nvSpPr>
          <p:spPr>
            <a:xfrm>
              <a:off x="543564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2160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697720" y="4830840"/>
            <a:ext cx="280800" cy="283680"/>
            <a:chOff x="5697720" y="4830840"/>
            <a:chExt cx="280800" cy="283680"/>
          </a:xfrm>
        </p:grpSpPr>
        <p:sp>
          <p:nvSpPr>
            <p:cNvPr id="303" name=""/>
            <p:cNvSpPr/>
            <p:nvPr/>
          </p:nvSpPr>
          <p:spPr>
            <a:xfrm>
              <a:off x="571176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9772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ABA1-630A-4FE1-913F-3B9FF7219C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02604 -4.44444E-006 E">
                                      <p:cBhvr>
                                        <p:cTn id="49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02812 -3.33333E-006 E">
                                      <p:cBhvr>
                                        <p:cTn id="5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1.11111E-006 L 0.03021 -1.11111E-006 E">
                                      <p:cBhvr>
                                        <p:cTn id="73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44444E-006 L -0.03073 -0.04931 C -0.03733 -0.06042 -0.04688 -0.06644 -0.05695 -0.06644 C -0.06841 -0.06644 -0.07743 -0.06042 -0.08403 -0.04931 L -0.11459 4.44444E-006 E">
                                      <p:cBhvr>
                                        <p:cTn id="81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 using the keyword array formed from “softwa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intext letter pair “AL” becomes “D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columns circle b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mselves, the let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 “TY” becomes “B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430960" y="4594320"/>
            <a:ext cx="1338840" cy="1334880"/>
            <a:chOff x="5430960" y="4594320"/>
            <a:chExt cx="1338840" cy="1334880"/>
          </a:xfrm>
        </p:grpSpPr>
        <p:grpSp>
          <p:nvGrpSpPr>
            <p:cNvPr id="308" name=""/>
            <p:cNvGrpSpPr/>
            <p:nvPr/>
          </p:nvGrpSpPr>
          <p:grpSpPr>
            <a:xfrm>
              <a:off x="5430960" y="4594320"/>
              <a:ext cx="1338840" cy="277920"/>
              <a:chOff x="5430960" y="4594320"/>
              <a:chExt cx="1338840" cy="27792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6231240" y="4594320"/>
                <a:ext cx="272160" cy="277920"/>
                <a:chOff x="6231240" y="4594320"/>
                <a:chExt cx="272160" cy="2779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23556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312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964480" y="4594320"/>
                <a:ext cx="272160" cy="277920"/>
                <a:chOff x="5964480" y="4594320"/>
                <a:chExt cx="272160" cy="2779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96880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9644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707080" y="4594320"/>
                <a:ext cx="272160" cy="277920"/>
                <a:chOff x="5707080" y="4594320"/>
                <a:chExt cx="272160" cy="2779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140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070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430960" y="4594320"/>
                <a:ext cx="272160" cy="277920"/>
                <a:chOff x="5430960" y="4594320"/>
                <a:chExt cx="272160" cy="2779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43528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43096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497640" y="4594320"/>
                <a:ext cx="272160" cy="277920"/>
                <a:chOff x="6497640" y="4594320"/>
                <a:chExt cx="272160" cy="2779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50196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4976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5430960" y="4860720"/>
              <a:ext cx="1338840" cy="277920"/>
              <a:chOff x="5430960" y="4860720"/>
              <a:chExt cx="1338840" cy="277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231240" y="4860720"/>
                <a:ext cx="272160" cy="277920"/>
                <a:chOff x="6231240" y="4860720"/>
                <a:chExt cx="272160" cy="2779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23556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312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964480" y="4860720"/>
                <a:ext cx="272160" cy="277920"/>
                <a:chOff x="5964480" y="4860720"/>
                <a:chExt cx="272160" cy="2779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96880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9644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5707080" y="4860720"/>
                <a:ext cx="272160" cy="277920"/>
                <a:chOff x="5707080" y="4860720"/>
                <a:chExt cx="272160" cy="2779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71140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7070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5430960" y="4860720"/>
                <a:ext cx="272160" cy="277920"/>
                <a:chOff x="5430960" y="4860720"/>
                <a:chExt cx="272160" cy="2779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543528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43096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497640" y="4860720"/>
                <a:ext cx="272160" cy="277920"/>
                <a:chOff x="6497640" y="4860720"/>
                <a:chExt cx="272160" cy="2779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50196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4976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5430960" y="5127480"/>
              <a:ext cx="1338840" cy="277920"/>
              <a:chOff x="5430960" y="5127480"/>
              <a:chExt cx="1338840" cy="27792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6231240" y="5127480"/>
                <a:ext cx="272160" cy="277920"/>
                <a:chOff x="6231240" y="5127480"/>
                <a:chExt cx="272160" cy="2779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623556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2312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964480" y="5127480"/>
                <a:ext cx="272160" cy="277920"/>
                <a:chOff x="5964480" y="5127480"/>
                <a:chExt cx="272160" cy="2779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96880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9644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707080" y="5127480"/>
                <a:ext cx="272160" cy="277920"/>
                <a:chOff x="5707080" y="5127480"/>
                <a:chExt cx="272160" cy="2779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71140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7070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30960" y="5127480"/>
                <a:ext cx="272160" cy="277920"/>
                <a:chOff x="5430960" y="5127480"/>
                <a:chExt cx="272160" cy="2779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3528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3096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6497640" y="5127480"/>
                <a:ext cx="272160" cy="277920"/>
                <a:chOff x="6497640" y="5127480"/>
                <a:chExt cx="272160" cy="2779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50196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4976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5430960" y="5394240"/>
              <a:ext cx="1338840" cy="277920"/>
              <a:chOff x="5430960" y="5394240"/>
              <a:chExt cx="1338840" cy="27792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6231240" y="5394240"/>
                <a:ext cx="272160" cy="277920"/>
                <a:chOff x="6231240" y="5394240"/>
                <a:chExt cx="272160" cy="2779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23556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2312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964480" y="5394240"/>
                <a:ext cx="272160" cy="277920"/>
                <a:chOff x="5964480" y="5394240"/>
                <a:chExt cx="272160" cy="2779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96880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9644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707080" y="5394240"/>
                <a:ext cx="272160" cy="277920"/>
                <a:chOff x="5707080" y="5394240"/>
                <a:chExt cx="272160" cy="2779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71140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7070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430960" y="5394240"/>
                <a:ext cx="272160" cy="277920"/>
                <a:chOff x="5430960" y="5394240"/>
                <a:chExt cx="272160" cy="277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43528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3096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497640" y="5394240"/>
                <a:ext cx="272160" cy="277920"/>
                <a:chOff x="6497640" y="5394240"/>
                <a:chExt cx="272160" cy="2779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50196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4976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5430960" y="5651280"/>
              <a:ext cx="1338840" cy="277920"/>
              <a:chOff x="5430960" y="5651280"/>
              <a:chExt cx="1338840" cy="2779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6231240" y="5651280"/>
                <a:ext cx="272160" cy="277920"/>
                <a:chOff x="6231240" y="5651280"/>
                <a:chExt cx="272160" cy="2779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23556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2312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5964480" y="5651280"/>
                <a:ext cx="272160" cy="277920"/>
                <a:chOff x="5964480" y="5651280"/>
                <a:chExt cx="272160" cy="2779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96880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9644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707080" y="5651280"/>
                <a:ext cx="272160" cy="277920"/>
                <a:chOff x="5707080" y="5651280"/>
                <a:chExt cx="272160" cy="2779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71140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7070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430960" y="5651280"/>
                <a:ext cx="272160" cy="277920"/>
                <a:chOff x="5430960" y="5651280"/>
                <a:chExt cx="272160" cy="2779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43528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3096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497640" y="5651280"/>
                <a:ext cx="272160" cy="277920"/>
                <a:chOff x="6497640" y="5651280"/>
                <a:chExt cx="272160" cy="2779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50196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976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8" name=""/>
          <p:cNvGrpSpPr/>
          <p:nvPr/>
        </p:nvGrpSpPr>
        <p:grpSpPr>
          <a:xfrm>
            <a:off x="5421600" y="4834080"/>
            <a:ext cx="280800" cy="283680"/>
            <a:chOff x="5421600" y="4834080"/>
            <a:chExt cx="280800" cy="283680"/>
          </a:xfrm>
        </p:grpSpPr>
        <p:sp>
          <p:nvSpPr>
            <p:cNvPr id="389" name=""/>
            <p:cNvSpPr/>
            <p:nvPr/>
          </p:nvSpPr>
          <p:spPr>
            <a:xfrm>
              <a:off x="5435640" y="48513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21600" y="4834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421600" y="5367240"/>
            <a:ext cx="280800" cy="284400"/>
            <a:chOff x="5421600" y="5367240"/>
            <a:chExt cx="280800" cy="284400"/>
          </a:xfrm>
        </p:grpSpPr>
        <p:sp>
          <p:nvSpPr>
            <p:cNvPr id="392" name=""/>
            <p:cNvSpPr/>
            <p:nvPr/>
          </p:nvSpPr>
          <p:spPr>
            <a:xfrm>
              <a:off x="5435640" y="5384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21600" y="53672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216840" y="4576680"/>
            <a:ext cx="280800" cy="284400"/>
            <a:chOff x="6216840" y="4576680"/>
            <a:chExt cx="280800" cy="284400"/>
          </a:xfrm>
        </p:grpSpPr>
        <p:sp>
          <p:nvSpPr>
            <p:cNvPr id="395" name=""/>
            <p:cNvSpPr/>
            <p:nvPr/>
          </p:nvSpPr>
          <p:spPr>
            <a:xfrm>
              <a:off x="6230880" y="459432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16840" y="4576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426280" y="5634000"/>
            <a:ext cx="280800" cy="283680"/>
            <a:chOff x="5426280" y="5634000"/>
            <a:chExt cx="280800" cy="283680"/>
          </a:xfrm>
        </p:grpSpPr>
        <p:sp>
          <p:nvSpPr>
            <p:cNvPr id="398" name=""/>
            <p:cNvSpPr/>
            <p:nvPr/>
          </p:nvSpPr>
          <p:spPr>
            <a:xfrm>
              <a:off x="544032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2628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421600" y="5105520"/>
            <a:ext cx="280800" cy="283680"/>
            <a:chOff x="5421600" y="5105520"/>
            <a:chExt cx="280800" cy="283680"/>
          </a:xfrm>
        </p:grpSpPr>
        <p:sp>
          <p:nvSpPr>
            <p:cNvPr id="401" name=""/>
            <p:cNvSpPr/>
            <p:nvPr/>
          </p:nvSpPr>
          <p:spPr>
            <a:xfrm>
              <a:off x="5435640" y="51228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21600" y="51055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216840" y="5634000"/>
            <a:ext cx="280800" cy="283680"/>
            <a:chOff x="6216840" y="5634000"/>
            <a:chExt cx="280800" cy="283680"/>
          </a:xfrm>
        </p:grpSpPr>
        <p:sp>
          <p:nvSpPr>
            <p:cNvPr id="404" name=""/>
            <p:cNvSpPr/>
            <p:nvPr/>
          </p:nvSpPr>
          <p:spPr>
            <a:xfrm>
              <a:off x="623088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1684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216840" y="4848120"/>
            <a:ext cx="280800" cy="284400"/>
            <a:chOff x="6216840" y="4848120"/>
            <a:chExt cx="280800" cy="284400"/>
          </a:xfrm>
        </p:grpSpPr>
        <p:sp>
          <p:nvSpPr>
            <p:cNvPr id="407" name=""/>
            <p:cNvSpPr/>
            <p:nvPr/>
          </p:nvSpPr>
          <p:spPr>
            <a:xfrm>
              <a:off x="6230880" y="4865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16840" y="4848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12160" y="4586400"/>
            <a:ext cx="280800" cy="283680"/>
            <a:chOff x="6212160" y="4586400"/>
            <a:chExt cx="280800" cy="283680"/>
          </a:xfrm>
        </p:grpSpPr>
        <p:sp>
          <p:nvSpPr>
            <p:cNvPr id="410" name=""/>
            <p:cNvSpPr/>
            <p:nvPr/>
          </p:nvSpPr>
          <p:spPr>
            <a:xfrm>
              <a:off x="6226200" y="46036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12160" y="45864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5D8AB-3729-4B8F-8B6A-B921DB2E5B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4098 E">
                                      <p:cBhvr>
                                        <p:cTn id="107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382 E">
                                      <p:cBhvr>
                                        <p:cTn id="11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1.11111E-006 0.0382 E">
                                      <p:cBhvr>
                                        <p:cTn id="131" dur="1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0069 L 0.03941 -0.04098 C 0.04844 -0.04954 0.05347 -0.06273 0.05347 -0.07616 C 0.05347 -0.09167 0.04844 -0.10417 0.03941 -0.11273 L 2.77778E-007 -0.15417 E">
                                      <p:cBhvr>
                                        <p:cTn id="139" dur="1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 pair “OP” forms two corners of an imaginary 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is replaced by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on the ot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ners “T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415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7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5" name=""/>
          <p:cNvGrpSpPr/>
          <p:nvPr/>
        </p:nvGrpSpPr>
        <p:grpSpPr>
          <a:xfrm>
            <a:off x="6221520" y="4816440"/>
            <a:ext cx="280800" cy="283680"/>
            <a:chOff x="6221520" y="4816440"/>
            <a:chExt cx="280800" cy="283680"/>
          </a:xfrm>
        </p:grpSpPr>
        <p:sp>
          <p:nvSpPr>
            <p:cNvPr id="496" name=""/>
            <p:cNvSpPr/>
            <p:nvPr/>
          </p:nvSpPr>
          <p:spPr>
            <a:xfrm>
              <a:off x="623556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152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693040" y="4021200"/>
            <a:ext cx="280800" cy="283680"/>
            <a:chOff x="5693040" y="4021200"/>
            <a:chExt cx="280800" cy="283680"/>
          </a:xfrm>
        </p:grpSpPr>
        <p:sp>
          <p:nvSpPr>
            <p:cNvPr id="499" name=""/>
            <p:cNvSpPr/>
            <p:nvPr/>
          </p:nvSpPr>
          <p:spPr>
            <a:xfrm>
              <a:off x="5707080" y="40384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9304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5829480" y="4162320"/>
            <a:ext cx="547560" cy="828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226560" y="4021200"/>
            <a:ext cx="280080" cy="283680"/>
            <a:chOff x="6226560" y="4021200"/>
            <a:chExt cx="280080" cy="283680"/>
          </a:xfrm>
        </p:grpSpPr>
        <p:sp>
          <p:nvSpPr>
            <p:cNvPr id="503" name=""/>
            <p:cNvSpPr/>
            <p:nvPr/>
          </p:nvSpPr>
          <p:spPr>
            <a:xfrm>
              <a:off x="6240240" y="403848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2656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693040" y="4816440"/>
            <a:ext cx="280800" cy="283680"/>
            <a:chOff x="5693040" y="4816440"/>
            <a:chExt cx="280800" cy="283680"/>
          </a:xfrm>
        </p:grpSpPr>
        <p:sp>
          <p:nvSpPr>
            <p:cNvPr id="506" name=""/>
            <p:cNvSpPr/>
            <p:nvPr/>
          </p:nvSpPr>
          <p:spPr>
            <a:xfrm>
              <a:off x="570708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9304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7C8E-61F5-4323-A152-49A882D0B5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05729 -4.44444E-006 E">
                                      <p:cBhvr>
                                        <p:cTn id="170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05573 3.33333E-006 E">
                                      <p:cBhvr>
                                        <p:cTn id="172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will implement playfai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100320" y="3009960"/>
            <a:ext cx="4219560" cy="36338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013440" y="3022560"/>
            <a:ext cx="1182600" cy="9144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84520" y="2679840"/>
            <a:ext cx="1182600" cy="452160"/>
          </a:xfrm>
          <a:prstGeom prst="wedgeRoundRectCallout">
            <a:avLst>
              <a:gd name="adj1" fmla="val -43689"/>
              <a:gd name="adj2" fmla="val 903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FC88D-8FD1-4153-91AC-9E4FB3F10A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6T01:48:04Z</dcterms:modified>
  <cp:revision>69</cp:revision>
  <dc:subject/>
  <dc:title>CAP Cryptographic Analysis Program</dc:title>
</cp:coreProperties>
</file>